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FE03-ECCD-418C-A124-339B4AEB1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F299-BCC4-40A7-AB98-E8D43F5F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2E77C9-1CD6-4D26-BC3E-D98397F8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294B68-AD3A-4C80-9D77-77AB3EF3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4E1448-E08E-4E40-8C8A-86AF773F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22011C-2543-4DD2-B070-70B6D220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B1AC9D-4808-4161-83BF-C3785F6C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A66A6-75D7-47EF-A16B-718AECDA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F44A6-8AD4-419B-AE5A-584A5543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628372-0A4B-448C-8830-AAACDEBF7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36C1D3-6924-4038-960E-8474F2DB3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C10468-2D76-4826-BDCC-36E843D2D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C1BF-246C-452D-9CEB-56A06FC86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231F3B-8FFB-49CC-A05B-9088743F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7F9978-EC61-4958-AA0C-8900108D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5B94EF-B5E3-42EF-9851-0F8C56C6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F0F731-3AEB-44C5-8E13-E6803543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606E0B-25FE-4DEE-93DF-263618F8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F78B46-1CB3-48C4-B9D3-2EC5D620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9F2A8-3ECC-4916-9EF0-8B46F5CB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9F5F48-1BEF-45C8-A0DF-6180B9BC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F45E44-0ACE-4615-84B7-2A3862E4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30FA0A-7C63-4597-9FA9-FDD60CA99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A3BC-6EAB-4B07-99B4-7E14132DD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6E47D2-5603-42EF-B45D-BD3C89AFF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A57930-FFC7-4CC9-9A26-6985AE22C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686F5-7A2A-4D0E-B2A1-5381C4A8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B6416D-11D2-4223-AAD0-9599ED01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75CB80-2D90-44BB-A5C8-B3A2F592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A686D7-0A91-433E-8A12-1365904A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9342B-9848-4691-931A-28F41A70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8DB65-19E5-4891-AECB-7D700FA3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995BE-1D03-467B-9D5A-4BDC272A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7F623-3EE6-4CEA-984E-3BE41346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518DE-8933-41B8-A232-8DE1DBB1C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FEFBF-36A7-42E6-9C8F-42E0AB33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7CB215-9514-4A42-BCD6-C178684DE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072C0-EA5E-4EDC-B75A-758709F76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AE568D-F9F7-4237-A52D-B10F2C8B4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61B4F5-9BF3-4EBA-B626-15580EE1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BF7690-B08D-4841-9F4E-E102F7A5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69768C-7E88-4C8E-8343-EE7019A7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50B76B-BD4B-44EF-9131-BC7591FC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D210B9-6735-40FE-9CCC-5DD3F781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1F3350-B210-41E5-AB9F-72BF792D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9EFF-1C8F-49AD-9B96-81CF2442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7E567E-7A23-4B03-8D70-5454F664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775D7A-F5D5-4CCC-B5C9-81D736D2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81F326-9DD7-4D36-B55D-B042085E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CA9284-CCC2-47DD-8EF6-98E97582A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E12D7E-0D1D-4025-82AE-5867FCAE2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76F815-12F9-4A0C-AE7C-C8177837C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2D4004-F5F7-4C38-BAF1-9BA8DF9C7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65C447-51E0-4F5E-B9F9-19F7906A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3D5279-A6E6-4CBA-B4AC-CA39D4CF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4961CF-4206-4419-A304-331DDD39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B2E6-9620-49C3-91D1-8C9E52B6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A448C7-B35A-4CC5-A9E1-BB74166B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730CA2-1E20-42D3-B31F-1189AF9B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C894D5-06A0-438B-9FE6-5066CAF9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4B34AE-EA42-470F-92E6-858FAE82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6C088D-97B8-47D0-982D-DC14A9BC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32AD11-0B7D-4630-AB2F-91A966B55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08DEC5-A61D-4E80-AB58-93D59D69B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8E0494-AF11-4905-BD2B-029D7D1C8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30A5AA-CC48-4925-9992-200F8394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8BA368-F4EE-4ED8-8333-7435A2B0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081B9-CB86-4174-A2E1-602DCDAD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65B08F-E43C-482E-A0B9-394AE83C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EFB4D5-1E9B-4ED6-8AC0-BC0DB669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76643F-59FD-4F25-ADF8-450CBF59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D8A525-222B-485B-B7C9-58EA3448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89FA32-90A2-4AD2-BDC5-CA3FECE9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C8AFC5-4CF7-4099-8CC7-C4824220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D9C8FF-5B6E-4816-82A1-39515497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F34B3D-7198-4FAF-A17D-836953899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62AAF9-016D-438B-BB49-3768A5E03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278A10-1AEE-434D-A44D-37CA45700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D16A-DFB6-4A7E-9811-6B1E4954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C8A811-E581-4AFF-94EE-C7097E45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765132-7AF2-4C9F-903E-C841C4B1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717434-0313-40FA-B136-643F2599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805A44-DE1F-496A-8D39-8B79EC92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E0C3EB-030D-4B87-A695-9F156F31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AEE633-C841-4828-A144-1C78E877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B29508-527B-416D-91F9-734A322A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E07473-3E2B-4B92-A13C-52C7AA91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85CDB4-1B40-41A7-96D3-0ADCD813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3387CB-39DC-4FA3-9C97-97894BA04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D858-18EE-40B3-9F6C-AC636515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B874A3-F5A0-4D0B-A938-93FFCB3A0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787847-2235-49C1-89EE-9B0A3D2B4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CE8735-FCE8-407D-8146-76A12D0B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2FB53C-E18D-4CC3-9957-E957724F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8137B1-5CEE-4904-8B1E-08D7885F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CB0016-5093-4E83-A45E-6DE045E75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920E84-E398-4A54-A44E-366174C0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BEBA26-FF26-4832-9EC2-0BC7A35F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BAAC86-9D2B-410A-BE24-08AD8102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7471D3-9D0E-484C-A1E1-254EEF29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6664-BAA4-4229-9BFB-00BAF4AD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3116CC-D0FF-451D-8967-BA513BA2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A36BFA-D2E2-44AE-B8A1-DB0FE530A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B78B2B-499D-477C-82C1-17CD62A9E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3232E0-710E-4283-99A8-A0621BED9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B41AB8-D5C6-45D2-9ED7-F536AF21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DCD748-7AB8-4A89-BD34-8E668687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7F6C66-B0DA-4531-854F-DDB310F2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87520F-CC82-40BC-A9BD-452891C2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FE0940-DCBA-480F-B925-EFFEAA7E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F5DFE6-0150-487E-9E26-600B7148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B495-3641-494B-B8C8-242BBC24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0DBC-52CA-41E9-BE3A-39F96295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E1E9F7-001B-4B93-AB14-D9B4D987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0A29BA-66DE-4850-8793-B58AEDA7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08A234-2D7E-4F55-B12A-18EBB753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04270E-42DF-41E0-A023-084FB3B68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4E4D3D-3A6F-4741-8A54-C752B8F81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3BA7B7-27CA-46E9-A20E-BB0831001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C236E8-DD9A-40F3-8BD7-51006AB0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589B67-C5D1-4ADE-A969-4B2DB1CC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D63B91-C646-4A85-BA49-FEF96A6D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02C6CE-C320-4D3C-B527-53903572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31C5-AB99-4DE7-B009-EBB045AF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44D096-9339-4FA0-8745-86B5BECF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046C06-2F8B-4312-A374-7B5A88E8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F8AFFB-3557-4D31-924F-BC046383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5BB3B7-7C51-4A24-B9FA-AFB3A6A7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BC4B96-9E4F-4C4A-8732-51ADB51B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7E7D7B-96AD-4E28-99FA-0BC1A35FF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A58E26-E8E2-42BF-9C1D-D65D78D12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2D021B-145A-4D90-A538-2F58F51A1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482F37-F085-407E-9F37-A9C92E38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2AE7C6-CD3A-48BA-9BAA-26963DB0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EE426-F2BC-4F8A-B48E-54721F2C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DBC800-E652-44C3-B20E-FD154828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0EAE97-DCE8-4C01-8013-4EF09963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02698E-8714-406A-ABE4-C018D68C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6E6E7A-72C3-4B24-BEC3-649244C6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066ADE-EA02-4997-959D-3F4D4930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BF858B-B7E0-4DB0-B8E2-FDA39A9E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4232A3-A9C8-4E1F-A4FD-856B2CC6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A4E612-02BA-4A87-A62C-679704BDC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85C341-04B9-46B2-AE79-594423533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98C09E-0DF0-4A8C-BD94-3634F4A0E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2FE5C-DECD-4476-81FC-5D3A31D35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A6CF5B-BEF8-4A9A-9208-DB5E95CA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A8AE0B-FEE6-47B1-873F-DDF59B52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8234FF-DF7D-443B-B111-450FAEB7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495A25-B626-4F7D-B71B-EA655A14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500057-3469-4636-931C-9FA07089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E7182B-989D-4C23-B655-FA3EDD80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9E00DF-BB27-4501-A76F-4E0476F7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EE42D9-D9B9-4923-BAF1-A51F8C4C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2CD80E-6C61-4F47-B396-D20DF2EA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CCDCF0-ECA1-4D97-83BF-9EC1E618F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513CA-BAC1-4999-972D-7ECD51014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62773D-2430-4C1A-8D75-511C469DB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B7FE7F-67B2-4785-85AA-A2A831FB0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699592-B9C8-4843-B4C2-57D5E44B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0FD1B5-F659-4F3D-888D-73C6D7972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2C852B-0785-4655-8E1D-21105374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496E28-9468-4898-A450-FEEE5F25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1CD771-DF15-42B2-8EE3-C49D6284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F00BA5-B889-41D3-89E3-5F728D2A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DB259C-5786-4057-8EC4-70FF0CF4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784C79-44F8-46C2-A8DD-50ACD8A2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70458-2152-465C-A68E-64116F912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515492-C8DC-4DD6-A5F9-81070A7B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E652C3-47D3-4F81-A0F1-B4F676944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762524-7B86-4DA7-BCD6-17B9CD4AE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C462B-EF96-4369-ADA9-0325101F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A9794-A12C-4C16-8F6A-C67C010A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8C9DF-BA2B-4C98-9C4D-08055B12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AB0F5-7FD7-4561-BFB2-5872E295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2A0A-81B7-4460-87B7-43F29E6E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EDC16-BEA5-48D9-A68C-4BA59DF7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7D8CC-A081-40F9-A95B-03FA389F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247ED-FC53-4EA8-9C8C-DD3B6850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332A5-799E-44C6-AF54-D649B5BC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E7167-9FB6-4305-B071-FB52E7D3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4CAA6-88D5-4F0B-B060-E9ECA7A4B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FB64C-A1AC-4AF4-8C97-CFCC26BAF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94DA5-A23B-4A4B-B129-3B84ABE5E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7B523-9702-4C7B-A27B-80BA0065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66DAD-CC3E-4A13-B33A-3F6E2EE8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888F-9150-45E8-9C43-BAD08687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60CD4-F75C-4FEB-8A8C-CC67F900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34ACB-9A3F-417B-BF4D-D91702A3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23292-D5F0-486B-8E68-70C92945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89ECB-6F99-498F-B03A-569C8E9C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EED77-887E-4DA0-96A3-3D0A75D6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FCC9A-F136-4702-A941-30EF444A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E843D-5055-41C6-AA3D-9BDDBF6B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A4670-62F0-4D7F-B48B-B813A96B9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DA6D4-B7A4-4770-9CB4-2798E716F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FA318-CCBB-48EE-825D-0635B6B1E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80A5-A29C-4897-9E32-6AB011D2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BAD03-048D-4986-AF39-DECFF35F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A8A33-3801-44D4-884F-3F74D80C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B56CC-B02F-4251-B53F-82427636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816DA-4642-4DF7-AA92-C0E6320B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15D3F-70BE-40CF-A437-F63D2246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73F05-C140-4184-8F8B-91A26D9F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3B1E6-8568-410A-B815-206193D7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8942C-8F84-488C-8377-3F939165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A4907-35B0-475C-BC0A-EB14D6E9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342D9-FA00-449B-9CC9-EF8F51020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934B-628E-4AFD-B73F-ABF9D5C6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B509B-DAB0-4505-8F7A-7E7919389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8F2CF-0F67-492C-A0B7-C6C8A4EEC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A52E0-E198-4719-84B7-74C1394E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BA396-282F-4E23-90EF-CC8C9670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43C48-AFAF-4BD6-9935-815CAD3E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3520C-A05B-4104-A185-5F9D79FD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70E84-596F-439F-B3E2-9489B0E2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2D673-84BB-4251-BBDC-03E6C95B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692DE-5192-4857-A3FD-1512D6D9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89DA8-8853-4ADA-938C-8CF54E97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1C92-0948-4B6A-8661-E487AB0F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F6356-D49D-4690-B049-915F0993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9C6CD-8D1F-4EF2-8C4A-42C3A00B5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B1787-C260-42BA-8E6D-B61444B5F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917CE-2158-4343-849C-8F88552FD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94BC2-75A9-492A-9C16-A09C8D8F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1258F-DE55-40E3-B95E-7D74E4FA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B95C7-8B8E-4840-8A46-06E3B7F2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BCE6E-CC8C-4408-8940-3897E229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A991C-3FEB-4C34-A11F-F452E996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8ED5B-BA70-4DD7-88BA-48ECC3D2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8480-C46C-4827-A10A-C713E390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9B937-84B2-467F-B2A8-1EDE6DDB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9E894-63EA-4F6E-AC29-88A4340A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5ADDB-04D8-4768-8C2B-ADE03808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03AB2-1D0B-40B3-93A7-1AC3EAAF7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98307-1CCD-4898-B814-88E12B082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F8CD5-044F-4AA9-8EE4-B3AB62805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3CDB7-54A9-4714-81FB-E82BAE7A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4879D-6E0B-45CF-83CC-44444FD6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07C97-F179-45B0-B788-56CED2BD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A4D41-1B26-4253-ACFE-3B859766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A575-A7AC-4504-8E72-49CA6E91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CC68A-8663-47F6-8BF1-C4F694E3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9D802-EAE2-4980-BF42-BDFBE088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C3873-4984-4571-A810-7313C00C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D59F4-8C05-415D-B4F9-39C67578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1678A-DD56-494F-BEFA-82F92C3A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5E626-E8C2-4A6A-8658-D73762356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45B45-E551-42B1-8794-8B3D5DD57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E278AE-E3C6-421C-8C7E-FF6846310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8B794-18F4-4444-891D-D19A30A0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2DA90D-8AB1-4FB4-B151-68F65D54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69C2-A64F-41DB-99E3-8D33DC289C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2175-0169-4C94-844F-6D349BA30B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31A4-B445-4FC9-A032-E409416160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9477-0D29-4EA6-8BDA-632A53B03D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C4BDB-6C38-40AA-B4AE-E0DFEEBA4A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A080-03A8-4D1D-A841-8224BD7622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9B20-960C-41DD-B670-447D338FB5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22BF-7AB4-43E8-9B0E-E0358CBF4D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82DC-E18C-4505-9F08-7B14D65C9A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420E-2098-4D9A-80E2-4828821DEA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376B-E9FF-46D2-8ADE-7D58EC9BEB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36C0-1343-4204-94F8-B8242BC8E2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A36D-78A6-435D-BA01-9F9EB64B60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F1B9-51B2-4E4F-ABDB-C998C00659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7187-F43D-41EA-9893-991A13E765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90E6-972E-4308-8A0A-C1F67F4F2D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BE49-523B-41D7-8D81-BFAF220662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5C38-94C2-4B54-A225-DDB4A2E423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B16F-E104-402E-9F37-C8148DF6DF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873F-11C1-4B66-A1DB-C673042A23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2D92-05B3-448D-8712-1087C1EEB9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72C4-E78E-4C09-AF4F-2A9CFAD528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872C-D978-4FAC-AE85-B50202AE22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5613-1DB7-49D6-90EE-54000050BA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54A2-70E6-4182-AC6E-A9828AAFA2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3771-057D-4BDB-84D9-2F551AE29C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13B9-54A6-4E7A-AD45-623583FABE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3E1C-76A8-496D-8FC0-05CA679817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FAC5-24AE-4862-B3B1-7C72850154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BE2B-F0DC-4176-BFDA-DD71CFE3D6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1DD3-B902-42A3-8073-404F7ABEDC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CF82-577F-4A29-8898-691FDAA17A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122E-DF8E-4AFE-BF9E-9D9C079259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230D-D288-4BDD-B5B3-773504880C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A96E-6D00-412F-B8C6-C523B3C9E7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11E4-7043-4E4E-8949-476486AB08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77BA-2E67-4300-8A98-75CD6DA258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D378-A1ED-456B-9D43-E30242D5B3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0546-916E-4B30-B0F7-2D69D5044F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0FB9-C94D-423D-B850-2329BF7A2D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190600" y="2909880"/>
            <a:ext cx="476280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69633" descr=""/>
          <p:cNvPicPr/>
          <p:nvPr/>
        </p:nvPicPr>
        <p:blipFill>
          <a:blip r:embed="rId1"/>
          <a:stretch/>
        </p:blipFill>
        <p:spPr>
          <a:xfrm>
            <a:off x="519120" y="2038320"/>
            <a:ext cx="8105760" cy="27813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2"/>
          <a:stretch/>
        </p:blipFill>
        <p:spPr>
          <a:xfrm>
            <a:off x="611280" y="2031840"/>
            <a:ext cx="7993080" cy="4939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3"/>
          <a:stretch/>
        </p:blipFill>
        <p:spPr>
          <a:xfrm>
            <a:off x="395280" y="2565360"/>
            <a:ext cx="7993080" cy="4939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4"/>
          <a:stretch/>
        </p:blipFill>
        <p:spPr>
          <a:xfrm>
            <a:off x="684360" y="3040200"/>
            <a:ext cx="7993080" cy="4935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5"/>
          <a:stretch/>
        </p:blipFill>
        <p:spPr>
          <a:xfrm>
            <a:off x="468360" y="3573360"/>
            <a:ext cx="7993080" cy="4939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6"/>
          <a:stretch/>
        </p:blipFill>
        <p:spPr>
          <a:xfrm>
            <a:off x="324000" y="4119480"/>
            <a:ext cx="8424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68609" descr=""/>
          <p:cNvPicPr/>
          <p:nvPr/>
        </p:nvPicPr>
        <p:blipFill>
          <a:blip r:embed="rId1"/>
          <a:stretch/>
        </p:blipFill>
        <p:spPr>
          <a:xfrm>
            <a:off x="228600" y="746280"/>
            <a:ext cx="8686800" cy="60674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2"/>
          <a:stretch/>
        </p:blipFill>
        <p:spPr>
          <a:xfrm>
            <a:off x="755640" y="3587760"/>
            <a:ext cx="3168720" cy="4935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684360" y="4091040"/>
            <a:ext cx="3168360" cy="4935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4"/>
          <a:stretch/>
        </p:blipFill>
        <p:spPr>
          <a:xfrm>
            <a:off x="684360" y="4653000"/>
            <a:ext cx="3168360" cy="49356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5"/>
          <a:stretch/>
        </p:blipFill>
        <p:spPr>
          <a:xfrm>
            <a:off x="684360" y="5157720"/>
            <a:ext cx="3168360" cy="4939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6"/>
          <a:stretch/>
        </p:blipFill>
        <p:spPr>
          <a:xfrm>
            <a:off x="898560" y="5676840"/>
            <a:ext cx="3168720" cy="49392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7"/>
          <a:stretch/>
        </p:blipFill>
        <p:spPr>
          <a:xfrm>
            <a:off x="826920" y="6180120"/>
            <a:ext cx="31687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图片 67585" descr=""/>
          <p:cNvPicPr/>
          <p:nvPr/>
        </p:nvPicPr>
        <p:blipFill>
          <a:blip r:embed="rId1"/>
          <a:stretch/>
        </p:blipFill>
        <p:spPr>
          <a:xfrm>
            <a:off x="138240" y="1125360"/>
            <a:ext cx="8867520" cy="2171880"/>
          </a:xfrm>
          <a:prstGeom prst="rect">
            <a:avLst/>
          </a:prstGeom>
          <a:ln w="0">
            <a:noFill/>
          </a:ln>
        </p:spPr>
      </p:pic>
      <p:pic>
        <p:nvPicPr>
          <p:cNvPr id="971" name="图片 67586" descr=""/>
          <p:cNvPicPr/>
          <p:nvPr/>
        </p:nvPicPr>
        <p:blipFill>
          <a:blip r:embed="rId2"/>
          <a:stretch/>
        </p:blipFill>
        <p:spPr>
          <a:xfrm>
            <a:off x="871560" y="3514680"/>
            <a:ext cx="7400880" cy="221940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3"/>
          <a:stretch/>
        </p:blipFill>
        <p:spPr>
          <a:xfrm>
            <a:off x="3348000" y="148428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4"/>
          <a:stretch/>
        </p:blipFill>
        <p:spPr>
          <a:xfrm>
            <a:off x="5722920" y="1484280"/>
            <a:ext cx="1009800" cy="49392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5"/>
          <a:stretch/>
        </p:blipFill>
        <p:spPr>
          <a:xfrm>
            <a:off x="2556000" y="2378160"/>
            <a:ext cx="792000" cy="49356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6"/>
          <a:stretch/>
        </p:blipFill>
        <p:spPr>
          <a:xfrm>
            <a:off x="7740720" y="2349360"/>
            <a:ext cx="792000" cy="4939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7"/>
          <a:stretch/>
        </p:blipFill>
        <p:spPr>
          <a:xfrm>
            <a:off x="1763640" y="3933720"/>
            <a:ext cx="792360" cy="4939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8"/>
          <a:stretch/>
        </p:blipFill>
        <p:spPr>
          <a:xfrm>
            <a:off x="5435640" y="3803760"/>
            <a:ext cx="792000" cy="77760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9"/>
          <a:stretch/>
        </p:blipFill>
        <p:spPr>
          <a:xfrm>
            <a:off x="2124000" y="4797360"/>
            <a:ext cx="792360" cy="49392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10"/>
          <a:stretch/>
        </p:blipFill>
        <p:spPr>
          <a:xfrm>
            <a:off x="5867280" y="4883040"/>
            <a:ext cx="792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23920" y="743040"/>
            <a:ext cx="8696160" cy="53719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4859280" y="2924280"/>
            <a:ext cx="3313080" cy="4935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5508720" y="429264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2627280" y="5589720"/>
            <a:ext cx="576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59410" descr=""/>
          <p:cNvPicPr/>
          <p:nvPr/>
        </p:nvPicPr>
        <p:blipFill>
          <a:blip r:embed="rId1"/>
          <a:stretch/>
        </p:blipFill>
        <p:spPr>
          <a:xfrm>
            <a:off x="542880" y="1662120"/>
            <a:ext cx="8058240" cy="35337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2"/>
          <a:stretch/>
        </p:blipFill>
        <p:spPr>
          <a:xfrm>
            <a:off x="3132000" y="191628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3"/>
          <a:stretch/>
        </p:blipFill>
        <p:spPr>
          <a:xfrm>
            <a:off x="6948360" y="1700280"/>
            <a:ext cx="936720" cy="4935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4"/>
          <a:stretch/>
        </p:blipFill>
        <p:spPr>
          <a:xfrm>
            <a:off x="2340000" y="2852640"/>
            <a:ext cx="576360" cy="100800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5"/>
          <a:stretch/>
        </p:blipFill>
        <p:spPr>
          <a:xfrm>
            <a:off x="5954760" y="282420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6"/>
          <a:stretch/>
        </p:blipFill>
        <p:spPr>
          <a:xfrm>
            <a:off x="6877080" y="400536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7"/>
          <a:stretch/>
        </p:blipFill>
        <p:spPr>
          <a:xfrm>
            <a:off x="2268360" y="4638600"/>
            <a:ext cx="576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8373" descr=""/>
          <p:cNvPicPr/>
          <p:nvPr/>
        </p:nvPicPr>
        <p:blipFill>
          <a:blip r:embed="rId1"/>
          <a:stretch/>
        </p:blipFill>
        <p:spPr>
          <a:xfrm>
            <a:off x="219240" y="1314360"/>
            <a:ext cx="8705520" cy="42292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2"/>
          <a:stretch/>
        </p:blipFill>
        <p:spPr>
          <a:xfrm>
            <a:off x="7667640" y="219060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3"/>
          <a:stretch/>
        </p:blipFill>
        <p:spPr>
          <a:xfrm>
            <a:off x="7667640" y="279576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4"/>
          <a:stretch/>
        </p:blipFill>
        <p:spPr>
          <a:xfrm>
            <a:off x="7667640" y="365904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5"/>
          <a:stretch/>
        </p:blipFill>
        <p:spPr>
          <a:xfrm>
            <a:off x="7667640" y="4811760"/>
            <a:ext cx="576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7352" descr=""/>
          <p:cNvPicPr/>
          <p:nvPr/>
        </p:nvPicPr>
        <p:blipFill>
          <a:blip r:embed="rId1"/>
          <a:stretch/>
        </p:blipFill>
        <p:spPr>
          <a:xfrm>
            <a:off x="509760" y="1376280"/>
            <a:ext cx="8124480" cy="41054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684360" y="2895480"/>
            <a:ext cx="3240000" cy="4939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826920" y="3573360"/>
            <a:ext cx="3240360" cy="4939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4"/>
          <a:stretch/>
        </p:blipFill>
        <p:spPr>
          <a:xfrm>
            <a:off x="5292720" y="3298680"/>
            <a:ext cx="3240000" cy="9939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5"/>
          <a:stretch/>
        </p:blipFill>
        <p:spPr>
          <a:xfrm>
            <a:off x="5435640" y="4508640"/>
            <a:ext cx="324000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6324" descr=""/>
          <p:cNvPicPr/>
          <p:nvPr/>
        </p:nvPicPr>
        <p:blipFill>
          <a:blip r:embed="rId1"/>
          <a:stretch/>
        </p:blipFill>
        <p:spPr>
          <a:xfrm>
            <a:off x="876240" y="2009880"/>
            <a:ext cx="7391520" cy="28382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971640" y="3241800"/>
            <a:ext cx="3744720" cy="4935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900000" y="3933720"/>
            <a:ext cx="3745080" cy="4939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4"/>
          <a:stretch/>
        </p:blipFill>
        <p:spPr>
          <a:xfrm>
            <a:off x="5219640" y="3270240"/>
            <a:ext cx="3745080" cy="4935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5"/>
          <a:stretch/>
        </p:blipFill>
        <p:spPr>
          <a:xfrm>
            <a:off x="5219640" y="3919680"/>
            <a:ext cx="37450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55300" descr=""/>
          <p:cNvPicPr/>
          <p:nvPr/>
        </p:nvPicPr>
        <p:blipFill>
          <a:blip r:embed="rId1"/>
          <a:stretch/>
        </p:blipFill>
        <p:spPr>
          <a:xfrm>
            <a:off x="547560" y="1252440"/>
            <a:ext cx="8048880" cy="43531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2"/>
          <a:stretch/>
        </p:blipFill>
        <p:spPr>
          <a:xfrm>
            <a:off x="1476360" y="2997360"/>
            <a:ext cx="4680000" cy="8632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3"/>
          <a:stretch/>
        </p:blipFill>
        <p:spPr>
          <a:xfrm>
            <a:off x="1476360" y="4005360"/>
            <a:ext cx="4680000" cy="8636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4"/>
          <a:stretch/>
        </p:blipFill>
        <p:spPr>
          <a:xfrm>
            <a:off x="1547640" y="4941720"/>
            <a:ext cx="46800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图片 54276" descr=""/>
          <p:cNvPicPr/>
          <p:nvPr/>
        </p:nvPicPr>
        <p:blipFill>
          <a:blip r:embed="rId1"/>
          <a:stretch/>
        </p:blipFill>
        <p:spPr>
          <a:xfrm>
            <a:off x="571680" y="2090880"/>
            <a:ext cx="8001000" cy="26762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2"/>
          <a:stretch/>
        </p:blipFill>
        <p:spPr>
          <a:xfrm>
            <a:off x="971640" y="3141720"/>
            <a:ext cx="5688000" cy="4935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3"/>
          <a:stretch/>
        </p:blipFill>
        <p:spPr>
          <a:xfrm>
            <a:off x="900000" y="3716280"/>
            <a:ext cx="5688000" cy="4939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4"/>
          <a:stretch/>
        </p:blipFill>
        <p:spPr>
          <a:xfrm>
            <a:off x="900000" y="4278240"/>
            <a:ext cx="56880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2231" descr=""/>
          <p:cNvPicPr/>
          <p:nvPr/>
        </p:nvPicPr>
        <p:blipFill>
          <a:blip r:embed="rId1"/>
          <a:stretch/>
        </p:blipFill>
        <p:spPr>
          <a:xfrm>
            <a:off x="262080" y="1109520"/>
            <a:ext cx="861984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00:18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